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2261-23FF-4D87-91DA-F2ACEA6D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A422-EB55-47D1-8C3D-A1811DA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562-547D-4679-97A3-D98761BD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D9D-0293-4358-9E63-3D32214D0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0BA71-B7AE-477D-9695-2BBA6CBD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DCBC1-66F4-4EDC-839B-94E0BDDF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800F-0E54-450B-AE38-DC898F1F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53511-96EF-487D-9DE1-9D59EB9D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FCD3-8F9A-4290-8BA0-6EBDA0DFE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6CC14-0214-4D57-9F5D-EB202B34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691D-FB0A-4F1E-9FA0-17539658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35B-0692-4149-A9A1-90743939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32D5-7CCA-4AD5-939D-B4DE8AEE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1980-3E44-4DC3-B4F2-BC932B41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E80F-8471-46D0-94F0-CF098511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FFF-79FC-4355-A234-F19DC3C9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786D-A148-4C93-B6BF-CBDC6B62C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11B4E-9069-434C-B1C8-4A414F28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EE37-03D9-4D1B-84F9-A21612D7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004B7-6571-4B3B-B0D2-CAABB83D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3B0D1-99F7-4F01-89BF-9E2F71A5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B97BB-A4F2-4C15-A755-B948AB6C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C11-B405-4FB6-A90D-EDC5FB8C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EA33-8E2A-435F-8CDB-3E864FF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2E11-0396-4DF0-A113-068B4E06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CE889-E9D9-480E-B598-0EED97E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C11E5-6E08-4745-8840-24234FB1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5E95-01BC-4BE8-A6A4-92B677ED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5897C-B7B3-4CE3-B643-0C6A7963B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25F43-A396-4433-A380-97B1C969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49419-C01D-4743-A900-8768DB9F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5A47A-74B0-45F6-99AE-69231A91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4EED3-BCF0-454D-9B63-11FCA7608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63CB-3819-4E05-A204-22527EA0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A8436-8E01-4F81-8316-2B0348B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3ECB-6731-4F8A-894B-B0C7C9A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1F01A-2AE3-49A5-B1C1-085F5E87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CCDA-ECDF-48A5-8ED7-5EA8A58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A381F-A18E-4330-831D-C84F9E50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486AD-41E9-4B8A-B92F-1878A449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C62B2-2546-4358-9A44-0CF2EE1C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87181-177C-471C-B45D-AC6D893D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84BD5-BA5C-4D7C-8CB3-0B9FDD64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E58EE-FAEF-4AC5-9243-0C9954CB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B5FF-2929-449B-A779-8A5DB7EA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1E800-642F-4D2A-A3FB-077C18E7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2919-B8E8-4759-B7E6-49F72DA2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CA7EE-BA7E-47E4-AC52-AF286E9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CBB5D-1715-4AFD-B01B-523448CF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F6C15-9D15-4F3F-82EA-8F238406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187F1-6B33-4B5C-BF03-882B8D90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D7AF-B4BE-4BE6-A3F6-0ABC9718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222A3-6937-44CA-984C-6031747C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2EF81-98CC-42A8-988C-C3E3534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92826-AC0C-441D-AE3F-527600889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66D8-0355-48C9-BD7F-5B980BF3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E31AF-423C-4155-8310-6194C098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4F466-3617-4D9D-BB71-1195D82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F4A89-1455-407B-8DF5-9FF2301F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6D2F6-4FDC-4916-B525-CE134A89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6FA42-561D-46AA-9B85-133337C6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40858-33A1-4AF6-B459-F3B75213A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0BE34-2D48-47A8-A1C0-8F6C73D29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5F520-C2D3-47F8-B5BF-C44D68C9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871DF-A2D6-454A-AB89-C55B640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37B44-0E30-4741-A753-A7205126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A32-0909-4006-A82B-FC6221E0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7A487-BF70-445F-8D52-60E4F70D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F774E-6E24-4D04-B4C5-5F5DF4AB7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A40CD-C3C9-4EAB-A768-222D0308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4A226A-A25C-4191-88ED-79736E0A9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64163-0E09-491C-B3AE-3A61B62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84488-E7CF-411A-A0E2-343A43B0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BD413-56C1-49DF-892B-701722CF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4BF0F-1803-4902-ADEF-676017E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EA70F-EE0B-4CAA-B8E2-5DFFA859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1A824-5FC4-4FBE-A393-481614B6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F0D4-0953-4EFD-9687-887F9525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7DE13-107F-4FA7-B627-D83C55A9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CE1DE-2DDB-49CE-BA95-AA3BE35E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5E387-C539-4659-AEAC-995D8D31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DB0C-01AF-4836-9B8A-BA2A9272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A9CE1-44CE-4AF5-87B0-BC72994A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7095-F27C-4D55-886A-674891CA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323358-9D15-417D-AC4D-732BDBBFDDE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093428-D9B5-4A13-87BA-A69F834B79D4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022CE-1363-4E98-BC48-FEF40B0F4F8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AE1AA-7127-4D91-9E33-540CE404E56C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BB646-6D6F-4B43-A75B-15EED76B66DC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9447B-DB8F-40D0-AB54-580EEA96E05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CC842-F986-44C9-A7DB-2D765AD574B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37B88-7FE6-485D-B4FE-F930AD744D5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CB206-D7BF-45A6-B3DF-E8B012C1D48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60012C-5367-4105-B7BE-74A2A8FA67EF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1B09B0-68EF-4A65-B86D-3E2F2077BCDF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31686-3A41-43D6-A71E-EAFD9DE1B2C1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21632A-A34A-4B2F-BCF8-E2D022734B28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B5FA0F-6E77-474B-A6D0-6A4922EF311A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emedicine.medscape.com/article/238545-overview" TargetMode="External"/><Relationship Id="rId3" Type="http://schemas.openxmlformats.org/officeDocument/2006/relationships/hyperlink" Target="http://emedicine.medscape.com/article/238545-overview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 &amp; Diagnosis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92324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4068"/>
                </a:solidFill>
                <a:latin typeface="Calibri Light"/>
              </a:rPr>
              <a:t>MODULE 1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ANITA BHAJAN MANOCH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HOSPITAL SEBERANG JAYA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DR. KOW FEI P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344068"/>
                </a:solidFill>
                <a:latin typeface="Calibri Light"/>
              </a:rPr>
              <a:t>KLINIK KESIHATAN BANDAR BARU AIR ITAM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5AED9-C40E-41BB-A858-93D84020793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821880" y="3004920"/>
            <a:ext cx="754380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has both diagnostic and prognostic value in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of proteinuria should be confirmed by a repeat test within 3 months. 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einuria shows considerable biological varia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F372C-BE1A-44C5-BD84-BF82A9BDB43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349200" y="312840"/>
            <a:ext cx="85536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Factors affecting urinary protein excre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57823-96F8-40E5-AE69-D2AD13A838E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7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050920" y="1846440"/>
            <a:ext cx="504216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hould be measured as a ratio to urinary creatinine concentra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rine AC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 is highly sensitive and specific for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microalbuminuri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be performed on an early morning urine sample to minimise the effect of posture and exercise on urine albumin excretio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A6DC4-A987-4069-A4A1-402F9E0284E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2" name="Object 6"/>
          <p:cNvGraphicFramePr/>
          <p:nvPr/>
        </p:nvGraphicFramePr>
        <p:xfrm>
          <a:off x="304920" y="2060640"/>
          <a:ext cx="1600200" cy="33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60640"/>
                    <a:ext cx="1600200" cy="33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5"/>
          <p:cNvGraphicFramePr/>
          <p:nvPr/>
        </p:nvGraphicFramePr>
        <p:xfrm>
          <a:off x="7238880" y="2057400"/>
          <a:ext cx="170820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8880" y="2057400"/>
                    <a:ext cx="1708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115920"/>
            <a:ext cx="7543800" cy="124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</a:rPr>
              <a:t>Diagnosis of abnormal protein or albumin excretion</a:t>
            </a:r>
            <a:endParaRPr b="0" lang="en-US" sz="4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8A3E8-3295-4F02-91EB-942EAB8A64B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1476360" y="1830240"/>
            <a:ext cx="6337440" cy="4911840"/>
          </a:xfrm>
          <a:prstGeom prst="rect">
            <a:avLst/>
          </a:prstGeom>
          <a:ln w="0">
            <a:noFill/>
          </a:ln>
        </p:spPr>
      </p:pic>
      <p:sp>
        <p:nvSpPr>
          <p:cNvPr id="349" name="Oval Callout 2"/>
          <p:cNvSpPr/>
          <p:nvPr/>
        </p:nvSpPr>
        <p:spPr>
          <a:xfrm>
            <a:off x="5410080" y="708120"/>
            <a:ext cx="2667240" cy="992160"/>
          </a:xfrm>
          <a:prstGeom prst="wedgeEllipseCallout">
            <a:avLst>
              <a:gd name="adj1" fmla="val -42893"/>
              <a:gd name="adj2" fmla="val 67500"/>
            </a:avLst>
          </a:prstGeom>
          <a:solidFill>
            <a:srgbClr val="ff0000"/>
          </a:solidFill>
          <a:ln w="15840">
            <a:solidFill>
              <a:srgbClr val="117e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MY" sz="2400" spc="-1" strike="noStrike">
                <a:solidFill>
                  <a:srgbClr val="ffffff"/>
                </a:solidFill>
                <a:latin typeface="Calibri"/>
              </a:rPr>
              <a:t>Gold stand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C7303-E446-4FA1-97DA-9018ECFFBDD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1703520" y="163440"/>
            <a:ext cx="57513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4DA67-CF71-45E2-B447-66F2A0D33A9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1"/>
          <a:stretch/>
        </p:blipFill>
        <p:spPr>
          <a:xfrm>
            <a:off x="2195640" y="115920"/>
            <a:ext cx="475272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Haemat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istent microscopic haematuria may indicate significant pathology including infection, renal calculi, glomerulonephritis, malignancy and other forms of kidney damag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rine microscopy (preferably phase contrast) on a fresh specimen can be used to differentiate hematuria of glomerular or non-glomerular orig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n-glomerular hematuria warrants a urological evaluat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1D1D5-D1E9-49F9-AEA4-285F984F47A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2F3561-E3D2-415A-B122-2A5D6FDE1E0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665280" y="404640"/>
            <a:ext cx="7916760" cy="59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67B3F8-4707-446F-8E55-10DE6C44FBB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8308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um creatinine is not sensitive to diagnose early CKD as it is affected by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d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hnic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le mass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etary protein intak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04BB2-C832-4757-8CCE-D24311E89D6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Learning objectiv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o learn 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tionale on whom to be screened for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ffective screening method and staging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lassification of CKD with its prognostic indicato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function and drug dos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C48AC-D782-4214-8D78-F543637050B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50120" cy="43434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erum creatinine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435640" y="1855440"/>
            <a:ext cx="3146400" cy="171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0" rIns="0" anchor="t">
            <a:normAutofit fontScale="98000"/>
          </a:bodyPr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rum creatinine is not a sensitive marker of early CKD as it will only rise after a 50% decline in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1000" indent="-1710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0ECF2-94A2-4A99-87EA-4B3E75F60E1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09480" y="6310440"/>
            <a:ext cx="792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  Salifu MO et al. Azotemia. emedicine. c2009 [Updated Sept 2009]. Available a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2"/>
              </a:rPr>
              <a:t> </a:t>
            </a:r>
            <a:r>
              <a:rPr b="0" lang="en-US" sz="1400" spc="-1" strike="noStrike" u="sng">
                <a:solidFill>
                  <a:srgbClr val="6eac1c"/>
                </a:solidFill>
                <a:uFillTx/>
                <a:latin typeface="Arial"/>
                <a:ea typeface="Times New Roman"/>
                <a:hlinkClick r:id="rId3"/>
              </a:rPr>
              <a:t>http://emedicine.medscape.com/article/238545-overview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e are various formulae to evaluate eGFR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KD-epidemiology (CKD-EPI) creatinine equation validated in the Western population has shown superiority over the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odification of Diet in Renal Disease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DRD) equation especially at higher GFR (&gt;60ml/min/1.73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tudy in Malaysian population also shown that CKD-EPI creatinine equation had better accuracy over MDRD in patients with eGFR &lt;60 ml/min/1.73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9. Levey AS, et al. Ann Intern Med. 2009;150 (9):604-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. Jalalonmuhali M, et al. BMC Nephrol. 2017;18(1):36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8CEAD-F85C-49C8-BFA0-B9DA18BB9F5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Estimation of renal function in the elderl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the elderly (age &gt;65 years), there is no accurate method to assess renal function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ockcroft-Gault Creatinine Clearance equation, MDRD equation and cystatin C have the highest correlation to the gold standards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ore studies are required to address the best formula for this age group. 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1. Van Pottelbergh G, et al. Age Ageing. 2010;39(5):542-8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C77EB-FE7E-4CB7-A435-9080958EAC6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Renal function and drug dosing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ckcroft-Gault equation has been traditionally used for drug dosing based on creatinine clearanc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recent practice CKD-EPI equation is used for drug dosing of newer generation drug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drug dosing adjustments should follow US-FDA and EMA labelling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A6C2C-AF8F-405D-AB16-F6A321FF480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ystatin C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21880" y="1846440"/>
            <a:ext cx="754380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ystatin C is used for GFR assessment and it is independent of muscle mass, age, sex, weight, height or dietary protein intak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combination of SCr and serum cystatin C is more accurate than either marker alone for eGFR evalua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ystatin C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is more expensive and not widely available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t may be used for confirmation of CKD in adults with eGFR of 45 - 59 ml/min/1.73 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with no other markers of kidney damage.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2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2. Inker LA, et al. N Engl J Med. 2012;367(1):20-9. Erratum in: N Engl J Med. 2012;367(7):681. N Engl J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Med. 2012;367(21):206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69200" indent="-169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92CF9-3412-4F3D-BAC9-6F134FC4771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EEA4E1-6BFC-4778-B311-04E0EDE48EC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379440" y="1341360"/>
            <a:ext cx="8513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Ultrasound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21880" y="1846080"/>
            <a:ext cx="754380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ltrasound is a useful first line test for imaging the renal tract in patients with CKD. It provides information on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nal size and symmetr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tical thickness and echogenic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inary tract obstru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id or cystic les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B6E758-CE33-4E1D-A92E-2896450D6B6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Picture 4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849600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EFF5A-C2D0-4AFC-975B-590589621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C13C42-CE48-4CD8-BD44-A9FC729AC69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336600" y="2781360"/>
            <a:ext cx="8483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Defini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A4EF39-12AB-4A55-8CAD-BC17A7E2987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83296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A) WHO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CCD69B-83CE-4222-8295-C0C6439BD8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Staging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arkers of  kidney damage is defined as either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(AER ≥30 mg/24 hours or ACR ≥3 mg/mmol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rine sediment abnormal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lyte and other abnormalities due to tubular disord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normalities detected by histolog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abnormalities detected by imag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story of kidney transplant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06403-F727-44D7-8382-BC5BC093FE4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404040"/>
                </a:solidFill>
                <a:latin typeface="Calibri Light"/>
              </a:rPr>
              <a:t>Classification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ification of CKD should be based upon cause, GFR category and albumin category (CGA).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sence or absence of systemic disease and location within the kidney of observed or presumed HPE finding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FR category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422F88-70DC-481F-A933-B1867FF143C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GFR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826B45-D67B-4ED1-8691-A596B519406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95280" y="1932120"/>
            <a:ext cx="83534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 category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4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44AB72-0880-4834-B31E-E105A576318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414360" y="2090880"/>
            <a:ext cx="82994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821880" y="1773360"/>
            <a:ext cx="754380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buminuria is an independent CV risk factor at any stage of CKD. Presence of albuminuria significantly increases the risk of CV events by ≥85% in stage 1 and 2 DK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ce and the degree of proteinuria predicts progression of CKD and development of ESRD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 Japanese cohort study, proteinuria significantly increased the risk of ESRD by more than 4 time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other study showed that presence of higher level of albuminuria conferred a higher risk of developing ESRD compared with lower level (HR of 47.2 vs 13.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04101-4CDF-4FAF-BFCB-F08592E9A30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Prognosis of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gnosis of CKD is based upon 4 factor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use of CK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buminuria categ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risk factors and co-morbid conditions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E0E1E-CA4F-44F5-B1A9-7CF3340A1C7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0C9FC7-92F4-402E-A82B-46DB7DBAB51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523080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2"/>
          <p:cNvSpPr/>
          <p:nvPr/>
        </p:nvSpPr>
        <p:spPr>
          <a:xfrm>
            <a:off x="988920" y="5516640"/>
            <a:ext cx="73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isks of ESRD and mortality are higher with larger eGFR decline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MY" sz="2400" spc="-1" strike="noStrike">
                <a:solidFill>
                  <a:srgbClr val="000000"/>
                </a:solidFill>
                <a:latin typeface="Arial"/>
              </a:rPr>
              <a:t>and higher albuminuria levels</a:t>
            </a:r>
            <a:r>
              <a:rPr b="0" lang="en-MY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B7BD1-531C-4B69-9966-BB864535983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821880" y="1846080"/>
            <a:ext cx="754380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 is significantly associated with increased risk fo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Malaysia, diabetic kidney disease (DKD)  is a major cause of CKD, contributing to 61% of new patients requiring dialysis in 2015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ypertension may be a cause or consequence of CKD and may accelerate the progression of renal disease leading to end-stage renal disease (ESRD).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9. Ministry of Health, Malaysia. Management of Chronic Kidney Disease in Adults. Putrajaya: MoH;      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5B229-90F2-48BE-ACDF-278B3135982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365040" y="325440"/>
            <a:ext cx="852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21880" y="22766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viduals &gt;65 years are at increased risk of CKD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esit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s the risk of developing low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FR with RR of 1.18 &amp; albuminuria with RR of 1.5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atients with atherosclerotic vascular disease have 1.4 times greater risk of developing CKD compared with those without the disease in a 2-year follow-up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Metabolic syndrome is a risk factor for CKD as shown by a large meta-analysis of 11 cohort studie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1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ength of the association increases as the number of components of metabolic syndrome increases.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0. Garofalo C, et al. Kidney Int. 2017;91(5):1224-35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1. Thomas G, et al. Clin J Am Soc Nephrol. 2011;6(10):2364-73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84CBA-EA8D-4A99-A19D-5E22807E519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423720" y="293760"/>
            <a:ext cx="8396280" cy="5252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2"/>
          <a:stretch/>
        </p:blipFill>
        <p:spPr>
          <a:xfrm>
            <a:off x="423720" y="765000"/>
            <a:ext cx="8396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3492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10920" y="1413000"/>
            <a:ext cx="79930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 drugs e.g. proton-pump inhibitors (PPI), analgesics, herbal preparations (e.g. aristolochic aci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se of PPI has been shown to significantly increase the risk of developing CKD (RR/OR=1.1-1.5)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3-15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 and progression of CKD (HR=1.26-1.32)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5-16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538200" indent="-36360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The risk correlates with cumulative dose of exposure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4 - 16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The most common risk factor for acute decline in GFR is the use of NSAIDs including Cox-2 inhibitors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Certain herbal products containing aristolochic acid are associated with CKD.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2. KDIGO CKD Work Group. Kidney Disease. Kidney Inter, Suppl. 2013;3:1-150.; 13. Arora P, et al.  BMC Nephrol. 2016;17(1):112.; 14. Lazarus B, et al. JAMA Intern Med. 2016;176(2):238-46.; 15. Xie X, et al. Lancet. 2016;387(10017):435-43.; 16. Klatte DCF, et al. Gastroenterology. 2017;153(3):702-10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BEF94-D2D9-47FB-A8FF-CF5E4572885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3240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Recommendation 1 – Screening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773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Screening for CKD may be considered for patients with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family history of CKD or hereditary kidney diseas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multisystem diseases with potential kidney involvement e.g. systemic lupus erythematosu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structural renal tract disease, renal calculi or prostatic hypertroph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buClr>
                <a:srgbClr val="1cade4"/>
              </a:buClr>
              <a:buFont typeface="Courier New"/>
              <a:buChar char="o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Calibri"/>
              </a:rPr>
              <a:t>opportunistic (incidental) detection of haematuria or proteinuri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mily history of kidney disease in first degree relatives increases the risk of CKD by 40% in a 25-year follow-up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Gout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nd asymptomatic hyperuricaemia are associated with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17 - 18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buClr>
                <a:srgbClr val="1cade4"/>
              </a:buClr>
              <a:buFont typeface="Arial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Individuals with incidental detection of proteinuria and/or haematuria during opportunistic medical screening need to be investigated for CKD.</a:t>
            </a:r>
            <a:r>
              <a:rPr b="0" lang="en-MY" sz="2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7. Roughley MJ, et al. Arthritis Res Ther. 2015;17:90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18. Zhu P, et al. PLoS One. 2014;9(6):e100801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E22D2-A485-43C6-9F35-9FF97770A4C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 Light"/>
              </a:rPr>
              <a:t>Other possible risk facto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story of acute kidney injury (AKI)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phrolithiasi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birth weight of &lt;2.5 kg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ing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socio-economic statu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emi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cturia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ysical inactiv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BB97EA-8B8C-487E-95B2-09A413C566F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SCREENING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(B) HOW &amp; WHEN TO SCREEN?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52DEC2-82EB-413F-87BC-DF5403D444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2:51:23Z</dcterms:modified>
  <cp:revision>200</cp:revision>
  <dc:subject/>
  <dc:title>SCREENING &amp; DIAGNOSIS</dc:title>
</cp:coreProperties>
</file>